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C29-F532-49C7-84AF-4158F0AC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7B3-D9AD-43A2-8BB4-B96D53E2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5DA-83C8-48CD-8A1C-193ED6EF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CAA-15FE-4FCA-A4A6-5AE34B55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8AB-107B-49F6-967B-3022145C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013-724E-4883-AC74-9A864FFB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D85-EB0C-4CF7-9021-BB54A3FB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935-4CA0-4F56-B0B2-F1151631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F31-B4C7-4DE0-9447-73D7B98C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B74-22C9-4F94-A44B-B8174AF7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AC9-EA28-416B-B9B8-A893E610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F5E-45A1-45FA-866C-6C887C4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0C56-9CEA-40C1-AE20-D2287E15B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Ontology 2.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on of multiple is_a inheritance through instantiation of relationships to terms in outside ontologies, such as the GO cellular component, GO biological process, and the PATO phenotype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should be more ontologically correct, and more useful for data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is likely to be slow, due to lack of personnel and funding to organize th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is Workshop</a:t>
            </a:r>
            <a:br>
              <a:rPr sz="44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per A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gmatic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ontology in its current form to include additional immune cell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al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 the groundwork for CL 2.0 in the area of immune cell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for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tation (ongoing for 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roduct term formation with GO, MP, and other ontologies (ongo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of Flow Cytometry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 Mod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DB annotation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21337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Protei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2670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GO 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8954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5288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523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k to extern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1337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expresses_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located_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438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participates_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28954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95288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523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k via specific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o 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ion between ontology, knowledgebase, and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nformation is needed to describe a cell uniquely — to create a formal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al with species differ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5:42:36Z</dcterms:created>
  <dc:creator>Alexander Diehl</dc:creator>
  <dc:description/>
  <dc:language>en-US</dc:language>
  <cp:lastModifiedBy>Alexander Diehl</cp:lastModifiedBy>
  <dcterms:modified xsi:type="dcterms:W3CDTF">2008-05-13T01:12:48Z</dcterms:modified>
  <cp:revision>6</cp:revision>
  <dc:subject/>
  <dc:title>Cell Ontology 2.0 </dc:title>
</cp:coreProperties>
</file>